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29.png" ContentType="image/png"/>
  <Override PartName="/ppt/media/image6.png" ContentType="image/png"/>
  <Override PartName="/ppt/media/image19.jpeg" ContentType="image/jpe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0.gif" ContentType="image/gif"/>
  <Override PartName="/ppt/media/image22.jpeg" ContentType="image/jpe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5.gif" ContentType="image/gif"/>
  <Override PartName="/ppt/media/image18.png" ContentType="image/png"/>
  <Override PartName="/ppt/media/image20.png" ContentType="image/png"/>
  <Override PartName="/ppt/media/image21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7EDB-BB4B-4B8F-8E4A-3DECA049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671-295E-42EF-9387-153875BC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EDED-DC3C-43D9-AE13-7204556D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488-D846-4F71-8DA1-65B333C3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933-1E7B-4981-A9FB-FE0070D0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2F8-6FF8-47A7-AEFC-D34DD7B5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C07-0AC6-4FF7-A1D5-33631491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86B-BA49-432B-987F-E7EEBA3C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72DC-B095-47F3-B30F-6A9B684B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FCC-AC4F-4B9D-844E-AA18BE77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23D9-1E6B-4F5B-81E7-BA0CC59F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DA5-F02F-4A9C-8DCC-0415C1CA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C60F-0F4D-469A-89ED-E9A42FDAC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Intro to Biolog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1920" y="57146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stores genetic inf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 rot="16200000">
            <a:off x="7031520" y="340956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4" descr="phospholip purple labels"/>
          <p:cNvPicPr/>
          <p:nvPr/>
        </p:nvPicPr>
        <p:blipFill>
          <a:blip r:embed="rId1"/>
          <a:stretch/>
        </p:blipFill>
        <p:spPr>
          <a:xfrm>
            <a:off x="457200" y="304920"/>
            <a:ext cx="110484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nucleotide 1P labeled"/>
          <p:cNvPicPr/>
          <p:nvPr/>
        </p:nvPicPr>
        <p:blipFill>
          <a:blip r:embed="rId2"/>
          <a:stretch/>
        </p:blipFill>
        <p:spPr>
          <a:xfrm>
            <a:off x="2743200" y="685800"/>
            <a:ext cx="2895480" cy="1360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helix6"/>
          <p:cNvPicPr/>
          <p:nvPr/>
        </p:nvPicPr>
        <p:blipFill>
          <a:blip r:embed="rId3"/>
          <a:stretch/>
        </p:blipFill>
        <p:spPr>
          <a:xfrm>
            <a:off x="5029200" y="2743200"/>
            <a:ext cx="1717560" cy="2998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aminoacidpaint"/>
          <p:cNvPicPr/>
          <p:nvPr/>
        </p:nvPicPr>
        <p:blipFill>
          <a:blip r:embed="rId4"/>
          <a:stretch/>
        </p:blipFill>
        <p:spPr>
          <a:xfrm>
            <a:off x="6095880" y="380880"/>
            <a:ext cx="2036880" cy="2024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glucose no label"/>
          <p:cNvPicPr/>
          <p:nvPr/>
        </p:nvPicPr>
        <p:blipFill>
          <a:blip r:embed="rId5"/>
          <a:stretch/>
        </p:blipFill>
        <p:spPr>
          <a:xfrm>
            <a:off x="2209680" y="3200400"/>
            <a:ext cx="1301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59720" y="1905120"/>
            <a:ext cx="84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:2:1;   1 carbon:2 hydrogen:1 oxyge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04920" y="342900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chemical formula for water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581280" y="4572000"/>
            <a:ext cx="1524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52280" y="7621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ratio of carbon, hydrogen, and oxygen atoms is seen in carbohydrat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ive an example of a heterotro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996840" y="1371600"/>
            <a:ext cx="71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ny animal (including humans)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ost bacter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82680" y="3429000"/>
            <a:ext cx="827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3 smaller particles found ins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s are ____________, _____________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_____________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895480" y="396252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rot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793840" y="3914640"/>
            <a:ext cx="20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eutr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586160" y="4492800"/>
            <a:ext cx="212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lectr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ame this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41280" y="5410080"/>
            <a:ext cx="755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dehydration synthesis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Losing water to make a bon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951720" y="609480"/>
            <a:ext cx="507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Comic Sans MS"/>
              </a:rPr>
              <a:t>http://www.usd116.org/apalla/biology/unit3/notes/3notes1.ht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6" descr="dehydration synth"/>
          <p:cNvPicPr/>
          <p:nvPr/>
        </p:nvPicPr>
        <p:blipFill>
          <a:blip r:embed="rId1"/>
          <a:stretch/>
        </p:blipFill>
        <p:spPr>
          <a:xfrm>
            <a:off x="914400" y="1066680"/>
            <a:ext cx="7162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the 4 molecules that are important for all living th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297440" y="2104920"/>
            <a:ext cx="49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teins, carbohydrates,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ipids, nucleic acid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50440" y="4191120"/>
            <a:ext cx="827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tomic particle with a negativ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harg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666880" y="495288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elect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822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one characteristic of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makes it important for living cel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57200" y="1830240"/>
            <a:ext cx="82962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ood solvent </a:t>
            </a:r>
            <a:br>
              <a:rPr sz="32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lots of substances dissolve in i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n absorb lots of heat without changing temp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(good for homeostasi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kes hydrogen bonds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(water molecules stick togethe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rticipant/product in many chemical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ctions (helps metabolism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 orbit the nucleus of 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 at very high speeds i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fferent energy leve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ons           neutrons         electrons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764280" y="533520"/>
            <a:ext cx="20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lect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60080" y="4390920"/>
            <a:ext cx="63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kind of electric charge 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114800" y="51055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egati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6" descr="atom2"/>
          <p:cNvPicPr/>
          <p:nvPr/>
        </p:nvPicPr>
        <p:blipFill>
          <a:blip r:embed="rId1"/>
          <a:stretch/>
        </p:blipFill>
        <p:spPr>
          <a:xfrm>
            <a:off x="6400800" y="1447920"/>
            <a:ext cx="1219320" cy="118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ave an uneven pattern of electric charge (more + on one side; more – on the other) are called ________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297440" y="182880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ola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28600" y="4343400"/>
            <a:ext cx="8686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ave gained or lost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so that they have an electric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rge are called  ______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886200" y="541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60440" y="304920"/>
            <a:ext cx="34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MOLECU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536400" y="434340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ATO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MOGLOBIN that carries oxygen in your blood, INSULIN that helps cells store sugar, and DIGESTIVE ENZYMES are all 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ins      carbohydrates        nucleic      lipid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106960" y="21049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tei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84720" y="4267080"/>
            <a:ext cx="6820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lucose is a _______________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in      carbohydrate       nucleic      lipi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ac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581280" y="42670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rbohydr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51920" y="60195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is a phospholipi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 rot="18288000">
            <a:off x="1752840" y="1371240"/>
            <a:ext cx="60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9" name="Picture 4" descr="phospholip purple labels"/>
          <p:cNvPicPr/>
          <p:nvPr/>
        </p:nvPicPr>
        <p:blipFill>
          <a:blip r:embed="rId1"/>
          <a:stretch/>
        </p:blipFill>
        <p:spPr>
          <a:xfrm>
            <a:off x="533520" y="380880"/>
            <a:ext cx="1104840" cy="2210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nucleotide 1P labeled"/>
          <p:cNvPicPr/>
          <p:nvPr/>
        </p:nvPicPr>
        <p:blipFill>
          <a:blip r:embed="rId2"/>
          <a:stretch/>
        </p:blipFill>
        <p:spPr>
          <a:xfrm>
            <a:off x="2743200" y="685800"/>
            <a:ext cx="2895480" cy="136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helix6"/>
          <p:cNvPicPr/>
          <p:nvPr/>
        </p:nvPicPr>
        <p:blipFill>
          <a:blip r:embed="rId3"/>
          <a:stretch/>
        </p:blipFill>
        <p:spPr>
          <a:xfrm>
            <a:off x="5943600" y="2666880"/>
            <a:ext cx="1717560" cy="299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aminoacidpaint"/>
          <p:cNvPicPr/>
          <p:nvPr/>
        </p:nvPicPr>
        <p:blipFill>
          <a:blip r:embed="rId4"/>
          <a:stretch/>
        </p:blipFill>
        <p:spPr>
          <a:xfrm>
            <a:off x="6095880" y="380880"/>
            <a:ext cx="2036880" cy="202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glucose no label"/>
          <p:cNvPicPr/>
          <p:nvPr/>
        </p:nvPicPr>
        <p:blipFill>
          <a:blip r:embed="rId5"/>
          <a:stretch/>
        </p:blipFill>
        <p:spPr>
          <a:xfrm>
            <a:off x="1447920" y="3276720"/>
            <a:ext cx="1301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282600" y="838080"/>
            <a:ext cx="824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article found in the nucleus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 atom with a positive charg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676520" y="24382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prot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5334840" y="-720"/>
            <a:ext cx="341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school.discovery.com/clipart/clip/ani-turtle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5680" y="4695840"/>
            <a:ext cx="58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ale used to measure acid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541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ame this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418640" y="5181480"/>
            <a:ext cx="451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www.usd116.org/apalla/biology/unit3/notes/images/Hydrolysis.jp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Picture 6" descr="hydrolysis of polymers"/>
          <p:cNvPicPr/>
          <p:nvPr/>
        </p:nvPicPr>
        <p:blipFill>
          <a:blip r:embed="rId1"/>
          <a:srcRect l="0" t="14188" r="0" b="0"/>
          <a:stretch/>
        </p:blipFill>
        <p:spPr>
          <a:xfrm>
            <a:off x="228600" y="990720"/>
            <a:ext cx="8915400" cy="41464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1965240" y="5415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703080" y="5546880"/>
            <a:ext cx="804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Hydrolysis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(adding water to break a bond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is an amino acid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80880" y="4038480"/>
            <a:ext cx="815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ok closely! They all a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ok for the groups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n the center carbon: Amino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rboxyl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Picture 4" descr="aminoacidpaint"/>
          <p:cNvPicPr/>
          <p:nvPr/>
        </p:nvPicPr>
        <p:blipFill>
          <a:blip r:embed="rId1"/>
          <a:stretch/>
        </p:blipFill>
        <p:spPr>
          <a:xfrm>
            <a:off x="685800" y="1371600"/>
            <a:ext cx="1828800" cy="181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aa phe"/>
          <p:cNvPicPr/>
          <p:nvPr/>
        </p:nvPicPr>
        <p:blipFill>
          <a:blip r:embed="rId2"/>
          <a:stretch/>
        </p:blipFill>
        <p:spPr>
          <a:xfrm>
            <a:off x="3200400" y="914400"/>
            <a:ext cx="1852560" cy="2604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aa paint"/>
          <p:cNvPicPr/>
          <p:nvPr/>
        </p:nvPicPr>
        <p:blipFill>
          <a:blip r:embed="rId3"/>
          <a:stretch/>
        </p:blipFill>
        <p:spPr>
          <a:xfrm>
            <a:off x="5029200" y="838080"/>
            <a:ext cx="1782720" cy="2378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aas_4"/>
          <p:cNvPicPr/>
          <p:nvPr/>
        </p:nvPicPr>
        <p:blipFill>
          <a:blip r:embed="rId4"/>
          <a:srcRect l="3518" t="71257" r="77458" b="0"/>
          <a:stretch/>
        </p:blipFill>
        <p:spPr>
          <a:xfrm>
            <a:off x="6781680" y="1143000"/>
            <a:ext cx="2062440" cy="1832040"/>
          </a:xfrm>
          <a:prstGeom prst="rect">
            <a:avLst/>
          </a:prstGeom>
          <a:ln w="0">
            <a:noFill/>
          </a:ln>
        </p:spPr>
      </p:pic>
      <p:sp>
        <p:nvSpPr>
          <p:cNvPr id="145" name="Oval 8"/>
          <p:cNvSpPr/>
          <p:nvPr/>
        </p:nvSpPr>
        <p:spPr>
          <a:xfrm rot="259200">
            <a:off x="151920" y="1676160"/>
            <a:ext cx="1265400" cy="11397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Oval 9"/>
          <p:cNvSpPr/>
          <p:nvPr/>
        </p:nvSpPr>
        <p:spPr>
          <a:xfrm rot="259200">
            <a:off x="2742840" y="1143000"/>
            <a:ext cx="990720" cy="11430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Oval 10"/>
          <p:cNvSpPr/>
          <p:nvPr/>
        </p:nvSpPr>
        <p:spPr>
          <a:xfrm rot="259200">
            <a:off x="5438880" y="2133360"/>
            <a:ext cx="1066680" cy="9144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Oval 11"/>
          <p:cNvSpPr/>
          <p:nvPr/>
        </p:nvSpPr>
        <p:spPr>
          <a:xfrm rot="259200">
            <a:off x="6794640" y="1534680"/>
            <a:ext cx="761760" cy="129564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9" name="Group 12"/>
          <p:cNvGrpSpPr/>
          <p:nvPr/>
        </p:nvGrpSpPr>
        <p:grpSpPr>
          <a:xfrm>
            <a:off x="1676520" y="762120"/>
            <a:ext cx="6858000" cy="2057400"/>
            <a:chOff x="1676520" y="762120"/>
            <a:chExt cx="6858000" cy="2057400"/>
          </a:xfrm>
        </p:grpSpPr>
        <p:sp>
          <p:nvSpPr>
            <p:cNvPr id="150" name="Oval 13"/>
            <p:cNvSpPr/>
            <p:nvPr/>
          </p:nvSpPr>
          <p:spPr>
            <a:xfrm>
              <a:off x="3809880" y="990720"/>
              <a:ext cx="990720" cy="6858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Oval 14"/>
            <p:cNvSpPr/>
            <p:nvPr/>
          </p:nvSpPr>
          <p:spPr>
            <a:xfrm>
              <a:off x="1676520" y="1371600"/>
              <a:ext cx="1066680" cy="1447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Oval 15"/>
            <p:cNvSpPr/>
            <p:nvPr/>
          </p:nvSpPr>
          <p:spPr>
            <a:xfrm>
              <a:off x="5562720" y="762120"/>
              <a:ext cx="1066680" cy="1066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16"/>
            <p:cNvSpPr/>
            <p:nvPr/>
          </p:nvSpPr>
          <p:spPr>
            <a:xfrm>
              <a:off x="7238880" y="990720"/>
              <a:ext cx="1295640" cy="761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990720" y="1600200"/>
            <a:ext cx="7848360" cy="1981080"/>
            <a:chOff x="990720" y="1600200"/>
            <a:chExt cx="7848360" cy="1981080"/>
          </a:xfrm>
        </p:grpSpPr>
        <p:sp>
          <p:nvSpPr>
            <p:cNvPr id="155" name="Oval 18"/>
            <p:cNvSpPr/>
            <p:nvPr/>
          </p:nvSpPr>
          <p:spPr>
            <a:xfrm>
              <a:off x="990720" y="2590920"/>
              <a:ext cx="1218960" cy="761760"/>
            </a:xfrm>
            <a:prstGeom prst="ellipse">
              <a:avLst/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19"/>
            <p:cNvSpPr/>
            <p:nvPr/>
          </p:nvSpPr>
          <p:spPr>
            <a:xfrm>
              <a:off x="3429000" y="1981080"/>
              <a:ext cx="1219320" cy="1600200"/>
            </a:xfrm>
            <a:prstGeom prst="ellipse">
              <a:avLst/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Oval 20"/>
            <p:cNvSpPr/>
            <p:nvPr/>
          </p:nvSpPr>
          <p:spPr>
            <a:xfrm>
              <a:off x="5029200" y="1600200"/>
              <a:ext cx="609480" cy="762120"/>
            </a:xfrm>
            <a:prstGeom prst="ellipse">
              <a:avLst/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7772400" y="1752480"/>
              <a:ext cx="1066680" cy="1600200"/>
            </a:xfrm>
            <a:prstGeom prst="ellipse">
              <a:avLst/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152280"/>
            <a:ext cx="876312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sugars are made of polysaccharides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 molecules are made of nucleotid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ino acids are made of prot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ycogen, starch, and cellulose are made of gluco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90720" y="4648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  Proteins are made of amino ac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40480" y="1295280"/>
            <a:ext cx="789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  Simple sugars are monosaccharides.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olysaccharides are complex carbo</a:t>
            </a: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 made of many suga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993960" y="31240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374840" y="58672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polymerization, complex molecules are formed by the joining together of 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macromolec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carbohydr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polym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 monom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223280" y="1295280"/>
            <a:ext cx="308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. monom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51920" y="60195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is a nucleoti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192560" y="20574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4" descr="phospholip purple labels"/>
          <p:cNvPicPr/>
          <p:nvPr/>
        </p:nvPicPr>
        <p:blipFill>
          <a:blip r:embed="rId1"/>
          <a:stretch/>
        </p:blipFill>
        <p:spPr>
          <a:xfrm>
            <a:off x="457200" y="304920"/>
            <a:ext cx="1104840" cy="2209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nucleotide 1P labeled"/>
          <p:cNvPicPr/>
          <p:nvPr/>
        </p:nvPicPr>
        <p:blipFill>
          <a:blip r:embed="rId2"/>
          <a:stretch/>
        </p:blipFill>
        <p:spPr>
          <a:xfrm>
            <a:off x="2743200" y="685800"/>
            <a:ext cx="2895480" cy="1360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helix6"/>
          <p:cNvPicPr/>
          <p:nvPr/>
        </p:nvPicPr>
        <p:blipFill>
          <a:blip r:embed="rId3"/>
          <a:stretch/>
        </p:blipFill>
        <p:spPr>
          <a:xfrm>
            <a:off x="5943600" y="2666880"/>
            <a:ext cx="1717560" cy="2998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aminoacidpaint"/>
          <p:cNvPicPr/>
          <p:nvPr/>
        </p:nvPicPr>
        <p:blipFill>
          <a:blip r:embed="rId4"/>
          <a:stretch/>
        </p:blipFill>
        <p:spPr>
          <a:xfrm>
            <a:off x="6095880" y="380880"/>
            <a:ext cx="2036880" cy="2024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glucose no label"/>
          <p:cNvPicPr/>
          <p:nvPr/>
        </p:nvPicPr>
        <p:blipFill>
          <a:blip r:embed="rId5"/>
          <a:stretch/>
        </p:blipFill>
        <p:spPr>
          <a:xfrm>
            <a:off x="1447920" y="3276720"/>
            <a:ext cx="1301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ive a function for nucleic acids in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914400" y="9907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ore genetic info (DNA)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transfer info from DNA to cell (RNA)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tein synthesis (RN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04920" y="3200400"/>
            <a:ext cx="8686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different amino acids a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d by all living things to make proteins?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735000" y="4724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ubunits that make nucleic acids are called _____________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ino acids         carbohydrates      nucleotides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278880" y="1066680"/>
            <a:ext cx="26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ucleotid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07080" y="3247920"/>
            <a:ext cx="63010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lucose, sucrose, glycogen,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rch are all examples of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85800" y="44197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rbohydrat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 is an important atom to living things because it can form bonds with 4 other atoms at once to make chains, rings, and many different kinds of molecul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221480" y="457200"/>
            <a:ext cx="184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arb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90840" y="3635280"/>
            <a:ext cx="78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4 of the 6 atoms importa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making molecules used in cell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609480" y="5029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rbon, nitrogen, hydrogen, oxygen, sulfur, OR phosphor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uble stranded nucleic acid molec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aining A, T, C, G nitrogen b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in chromosomes that st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netic information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108400" y="2209680"/>
            <a:ext cx="12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04920" y="464832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cromolecule made by joining MANY sugar molecules together in a chai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286000" y="5943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olysacchar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4876560" y="4571280"/>
            <a:ext cx="342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eb.mit.edu/esgbio/www/lm/sugars/sugars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7" descr="amylose"/>
          <p:cNvPicPr/>
          <p:nvPr/>
        </p:nvPicPr>
        <p:blipFill>
          <a:blip r:embed="rId1"/>
          <a:srcRect l="0" t="0" r="0" b="30950"/>
          <a:stretch/>
        </p:blipFill>
        <p:spPr>
          <a:xfrm>
            <a:off x="4572000" y="3352680"/>
            <a:ext cx="4317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ino acid subunits join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make 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pids       carbohydrates            nucleic       protei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820960" y="111456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tei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02040" y="3095640"/>
            <a:ext cx="8181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enine, Thymine, Cytosine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uanine, and Uracil are used to mak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saccharides      amino acids           nucleotides            lip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685800" y="41911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ucleotid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1920" y="57146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could be used to make glycogen, starch, or cellulo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 rot="5400000">
            <a:off x="991440" y="342864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4" descr="phospholip purple labels"/>
          <p:cNvPicPr/>
          <p:nvPr/>
        </p:nvPicPr>
        <p:blipFill>
          <a:blip r:embed="rId1"/>
          <a:stretch/>
        </p:blipFill>
        <p:spPr>
          <a:xfrm>
            <a:off x="457200" y="304920"/>
            <a:ext cx="1104840" cy="2209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nucleotide 1P labeled"/>
          <p:cNvPicPr/>
          <p:nvPr/>
        </p:nvPicPr>
        <p:blipFill>
          <a:blip r:embed="rId2"/>
          <a:stretch/>
        </p:blipFill>
        <p:spPr>
          <a:xfrm>
            <a:off x="2743200" y="685800"/>
            <a:ext cx="2895480" cy="136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elix6"/>
          <p:cNvPicPr/>
          <p:nvPr/>
        </p:nvPicPr>
        <p:blipFill>
          <a:blip r:embed="rId3"/>
          <a:stretch/>
        </p:blipFill>
        <p:spPr>
          <a:xfrm>
            <a:off x="5029200" y="2743200"/>
            <a:ext cx="1717560" cy="299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aminoacidpaint"/>
          <p:cNvPicPr/>
          <p:nvPr/>
        </p:nvPicPr>
        <p:blipFill>
          <a:blip r:embed="rId4"/>
          <a:stretch/>
        </p:blipFill>
        <p:spPr>
          <a:xfrm>
            <a:off x="6095880" y="380880"/>
            <a:ext cx="2036880" cy="2024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glucose no label"/>
          <p:cNvPicPr/>
          <p:nvPr/>
        </p:nvPicPr>
        <p:blipFill>
          <a:blip r:embed="rId5"/>
          <a:stretch/>
        </p:blipFill>
        <p:spPr>
          <a:xfrm>
            <a:off x="2209680" y="3200400"/>
            <a:ext cx="130176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TextBox 8"/>
          <p:cNvSpPr/>
          <p:nvPr/>
        </p:nvSpPr>
        <p:spPr>
          <a:xfrm>
            <a:off x="2188440" y="281952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3 of the many functions of proteins that you learned ab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04920" y="206856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t as enzymes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ansport (Help move substances in &amp; out of cells) Help synthesize other proteins (part of ribosom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ovement (make up cytoskeleton, cilia, flagell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t as hormones (insulin)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lp cells recognize self (glycoproteins)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uctural (make cell membran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ght germs (antibodies)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arry oxygen in blood cells (hemoglobin)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trol blood sugar (insuli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51920" y="59432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is a carbohydrat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 rot="16200000">
            <a:off x="3221640" y="363816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4" descr="phospholip purple labels"/>
          <p:cNvPicPr/>
          <p:nvPr/>
        </p:nvPicPr>
        <p:blipFill>
          <a:blip r:embed="rId1"/>
          <a:stretch/>
        </p:blipFill>
        <p:spPr>
          <a:xfrm>
            <a:off x="457200" y="304920"/>
            <a:ext cx="1104840" cy="2209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nucleotide 1P labeled"/>
          <p:cNvPicPr/>
          <p:nvPr/>
        </p:nvPicPr>
        <p:blipFill>
          <a:blip r:embed="rId2"/>
          <a:stretch/>
        </p:blipFill>
        <p:spPr>
          <a:xfrm>
            <a:off x="2743200" y="685800"/>
            <a:ext cx="2895480" cy="1360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helix6"/>
          <p:cNvPicPr/>
          <p:nvPr/>
        </p:nvPicPr>
        <p:blipFill>
          <a:blip r:embed="rId3"/>
          <a:stretch/>
        </p:blipFill>
        <p:spPr>
          <a:xfrm>
            <a:off x="5943600" y="2666880"/>
            <a:ext cx="1717560" cy="2998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aminoacidpaint"/>
          <p:cNvPicPr/>
          <p:nvPr/>
        </p:nvPicPr>
        <p:blipFill>
          <a:blip r:embed="rId4"/>
          <a:stretch/>
        </p:blipFill>
        <p:spPr>
          <a:xfrm>
            <a:off x="6095880" y="380880"/>
            <a:ext cx="2036880" cy="2024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glucose no label"/>
          <p:cNvPicPr/>
          <p:nvPr/>
        </p:nvPicPr>
        <p:blipFill>
          <a:blip r:embed="rId5"/>
          <a:stretch/>
        </p:blipFill>
        <p:spPr>
          <a:xfrm>
            <a:off x="1447920" y="3276720"/>
            <a:ext cx="1301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a function of carbohydrates in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459000" y="1981080"/>
            <a:ext cx="833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urn for energy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ore energy for later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ructural (cellulose makes plants sturdy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ell ID (part of glycoproteins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88394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ch the building block with the molecule it makes.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ins       nucleic acids      lipids     carbohydra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040640" y="1981080"/>
            <a:ext cx="30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ucleic aci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887640" y="923760"/>
            <a:ext cx="32288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4421520" y="3809880"/>
            <a:ext cx="19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rotei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6" descr="glucose molecule"/>
          <p:cNvPicPr/>
          <p:nvPr/>
        </p:nvPicPr>
        <p:blipFill>
          <a:blip r:embed="rId1"/>
          <a:stretch/>
        </p:blipFill>
        <p:spPr>
          <a:xfrm>
            <a:off x="1600200" y="4876920"/>
            <a:ext cx="1719360" cy="17524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7"/>
          <p:cNvSpPr/>
          <p:nvPr/>
        </p:nvSpPr>
        <p:spPr>
          <a:xfrm>
            <a:off x="4253760" y="555948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arbohydrat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8" descr="aminoacidpaint"/>
          <p:cNvPicPr/>
          <p:nvPr/>
        </p:nvPicPr>
        <p:blipFill>
          <a:blip r:embed="rId2"/>
          <a:stretch/>
        </p:blipFill>
        <p:spPr>
          <a:xfrm>
            <a:off x="1371600" y="2819520"/>
            <a:ext cx="1981080" cy="1968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nucleotide flip"/>
          <p:cNvPicPr/>
          <p:nvPr/>
        </p:nvPicPr>
        <p:blipFill>
          <a:blip r:embed="rId3"/>
          <a:stretch/>
        </p:blipFill>
        <p:spPr>
          <a:xfrm>
            <a:off x="304920" y="1278000"/>
            <a:ext cx="3504960" cy="13827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0"/>
          <p:cNvSpPr/>
          <p:nvPr/>
        </p:nvSpPr>
        <p:spPr>
          <a:xfrm>
            <a:off x="3201480" y="6613560"/>
            <a:ext cx="56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Glucose from: http://www.estrellamountain.edu/faculty/farabee/biobk/BioBookCHEM2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5715000" y="990720"/>
            <a:ext cx="288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99"/>
                </a:solidFill>
                <a:latin typeface="Arial"/>
              </a:rPr>
              <a:t>Nucleotide and amino acid images by Riedel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property of carbon allows it to form so many different kinds of molecu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16320" y="2133720"/>
            <a:ext cx="800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an join 4 other atoms at same tim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9960" y="3200400"/>
            <a:ext cx="70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are some factors that can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fluence an enzyme</a:t>
            </a: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 activit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209680" y="48769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emperature &amp; p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one of the properties of water that make it important for living th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36520" y="1774800"/>
            <a:ext cx="8896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ts polar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so it dissolves many different substa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t doesn</a:t>
            </a:r>
            <a:r>
              <a:rPr b="1" lang="ja-JP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 change temperature easi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o it helps in homeostasis (maintaining temp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t forms hydrogen bonds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o molecules stick toget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t is an important participant/product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many chemical re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l one way DNA is different from 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09960" y="1447920"/>
            <a:ext cx="8698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NA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N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ouble stranded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ingle strand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tains A,T,C,G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tains A,U,C,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o U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o 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gar = deoxyribose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gar = riboso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tores genetic info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transfers inf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rom nucleus to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ut to cel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534600" y="3505320"/>
            <a:ext cx="465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 = 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 = 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 = 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 = 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88394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e following in the enzyme catalyzed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831320" y="3429000"/>
            <a:ext cx="181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nzym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753560" y="566424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600200" y="5105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nyzme-substrate comple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754280" y="4038480"/>
            <a:ext cx="23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ctive si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1755720" y="4572000"/>
            <a:ext cx="23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bstrat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9" descr="enzyme catalyzed rxn"/>
          <p:cNvPicPr/>
          <p:nvPr/>
        </p:nvPicPr>
        <p:blipFill>
          <a:blip r:embed="rId1"/>
          <a:stretch/>
        </p:blipFill>
        <p:spPr>
          <a:xfrm>
            <a:off x="609480" y="914400"/>
            <a:ext cx="8153640" cy="24321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0"/>
          <p:cNvSpPr/>
          <p:nvPr/>
        </p:nvSpPr>
        <p:spPr>
          <a:xfrm>
            <a:off x="7773480" y="3200400"/>
            <a:ext cx="117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by Riedel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subunits made of a nitrogen base, and sugar, and a phosphate group used to make nucleic acids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464920" y="2141640"/>
            <a:ext cx="312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nucleotid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10160" y="3247920"/>
            <a:ext cx="831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olysaccharide used by animal cel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store glucose for lat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905120" y="44197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glycoge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6" descr="glycogen2"/>
          <p:cNvPicPr/>
          <p:nvPr/>
        </p:nvPicPr>
        <p:blipFill>
          <a:blip r:embed="rId1"/>
          <a:srcRect l="0" t="0" r="21997" b="40127"/>
          <a:stretch/>
        </p:blipFill>
        <p:spPr>
          <a:xfrm>
            <a:off x="6324480" y="4191120"/>
            <a:ext cx="2286000" cy="1819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4341600" y="6613560"/>
            <a:ext cx="45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www.msu.edu/course/lbs/145/smith/s02/graphics/campbell_5.6.gif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3818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ind of lipid made from carbon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ydrogen joined in rings instead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ains that make up cell membrane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n act as 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182600" y="3200400"/>
            <a:ext cx="22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teroi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512800" y="6248520"/>
            <a:ext cx="633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99"/>
                </a:solidFill>
                <a:latin typeface="Arial"/>
              </a:rPr>
              <a:t>http://</a:t>
            </a: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media.pearsoncmg.com/bc/bc_campbell_essentials_2/cipl/03/HTML/source/03-16-steroids-nl.ht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7" descr="03-16-steroids-nl"/>
          <p:cNvPicPr/>
          <p:nvPr/>
        </p:nvPicPr>
        <p:blipFill>
          <a:blip r:embed="rId1"/>
          <a:srcRect l="0" t="0" r="0" b="9321"/>
          <a:stretch/>
        </p:blipFill>
        <p:spPr>
          <a:xfrm>
            <a:off x="5105520" y="3200400"/>
            <a:ext cx="259056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15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imple sugar that cells burn to release energy is _______________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982520" y="1600200"/>
            <a:ext cx="17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luco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80880" y="32004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ive an example of a monosacchar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838080" y="4267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lucose, galactose, fructose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ibose, deoxyribose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1920" y="60195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is a nucleic aci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 rot="5400000">
            <a:off x="5015520" y="3428640"/>
            <a:ext cx="60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Picture 4" descr="phospholip purple labels"/>
          <p:cNvPicPr/>
          <p:nvPr/>
        </p:nvPicPr>
        <p:blipFill>
          <a:blip r:embed="rId1"/>
          <a:stretch/>
        </p:blipFill>
        <p:spPr>
          <a:xfrm>
            <a:off x="457200" y="304920"/>
            <a:ext cx="1104840" cy="22096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nucleotide 1P labeled"/>
          <p:cNvPicPr/>
          <p:nvPr/>
        </p:nvPicPr>
        <p:blipFill>
          <a:blip r:embed="rId2"/>
          <a:stretch/>
        </p:blipFill>
        <p:spPr>
          <a:xfrm>
            <a:off x="2743200" y="685800"/>
            <a:ext cx="2895480" cy="1360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helix6"/>
          <p:cNvPicPr/>
          <p:nvPr/>
        </p:nvPicPr>
        <p:blipFill>
          <a:blip r:embed="rId3"/>
          <a:stretch/>
        </p:blipFill>
        <p:spPr>
          <a:xfrm>
            <a:off x="5943600" y="2666880"/>
            <a:ext cx="1717560" cy="2998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aminoacidpaint"/>
          <p:cNvPicPr/>
          <p:nvPr/>
        </p:nvPicPr>
        <p:blipFill>
          <a:blip r:embed="rId4"/>
          <a:stretch/>
        </p:blipFill>
        <p:spPr>
          <a:xfrm>
            <a:off x="6095880" y="380880"/>
            <a:ext cx="2036880" cy="2024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glucose no label"/>
          <p:cNvPicPr/>
          <p:nvPr/>
        </p:nvPicPr>
        <p:blipFill>
          <a:blip r:embed="rId5"/>
          <a:stretch/>
        </p:blipFill>
        <p:spPr>
          <a:xfrm>
            <a:off x="1447920" y="3276720"/>
            <a:ext cx="1301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hydrate molecule like gluco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at is made from only ONE sug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3173400" y="1447920"/>
            <a:ext cx="39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monosacchar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31840" y="2495520"/>
            <a:ext cx="8594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cale used to measure acid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lecule formed when a substrate bond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the active site of an enzy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286000" y="31240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1894320" y="5340240"/>
            <a:ext cx="56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Enzyme-substrate comple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380880" y="304920"/>
            <a:ext cx="83822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3 parts of a nucleot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#1 = __________________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#2 = __________________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#3 = __________________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523880" y="5791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osph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" name="Picture 4" descr="nucleotide flip blank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0085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5"/>
          <p:cNvSpPr/>
          <p:nvPr/>
        </p:nvSpPr>
        <p:spPr>
          <a:xfrm>
            <a:off x="2592000" y="1752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4953960" y="3200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#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670716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1677960" y="4572000"/>
            <a:ext cx="63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itrogen base (A, T, C, G, or U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1602360" y="5181480"/>
            <a:ext cx="603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gar (deoxyribose or ribo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lecule that is REALLY, REALLY BI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2294280" y="2293920"/>
            <a:ext cx="410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acromolecu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566640" y="3643200"/>
            <a:ext cx="840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imulus that comes from ins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 organis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057400" y="51814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internal stimul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4"/>
          <p:cNvSpPr/>
          <p:nvPr/>
        </p:nvSpPr>
        <p:spPr>
          <a:xfrm>
            <a:off x="305640" y="1114560"/>
            <a:ext cx="685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utral particle found in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ucleus of an ato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48320" y="18288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neut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354240" y="3200760"/>
            <a:ext cx="879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lecule such as glycogen, starch, or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ellulose, made by joining many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nosaccharide (sugar) molecule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2619360" y="479988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olysacchar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321840" y="352440"/>
            <a:ext cx="549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 carbon sugar used t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ke RN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1866600" y="1647720"/>
            <a:ext cx="159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ribo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3" name="Picture 10" descr="fig5x27b"/>
          <p:cNvPicPr/>
          <p:nvPr/>
        </p:nvPicPr>
        <p:blipFill>
          <a:blip r:embed="rId1"/>
          <a:srcRect l="55815" t="11110" r="9304" b="40000"/>
          <a:stretch/>
        </p:blipFill>
        <p:spPr>
          <a:xfrm>
            <a:off x="6019920" y="380880"/>
            <a:ext cx="1904760" cy="16765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1"/>
          <p:cNvSpPr/>
          <p:nvPr/>
        </p:nvSpPr>
        <p:spPr>
          <a:xfrm>
            <a:off x="5105520" y="0"/>
            <a:ext cx="38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fig.cox.miami.edu/~cmallery/150/chemistry/fig5x27b.jp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228600" y="240984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ubstances produced during a chemical reaction that are found on the right side of a chemical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971800" y="44197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roduc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ll the chemical reactions throug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ich an organism builds up 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reaks down materials as it carries out its life process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4638240" y="2362320"/>
            <a:ext cx="32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etabolis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41920" y="3476520"/>
            <a:ext cx="69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ganism made of many cel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438280" y="39625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ulticellula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5520" y="4940640"/>
            <a:ext cx="7588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lecules found in living thing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at contain CARB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003720" y="5637960"/>
            <a:ext cx="210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organi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80520" y="2282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tein that carries oxygen found in red blood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620360" y="14479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hemoglobi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0680" y="2514600"/>
            <a:ext cx="920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Kind of chemical reaction used by cel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join molecules together by remov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H and OH to make a water molecu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51720" y="4572000"/>
            <a:ext cx="474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Dehydration syn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7" name="Picture 7" descr="pp3"/>
          <p:cNvPicPr/>
          <p:nvPr/>
        </p:nvPicPr>
        <p:blipFill>
          <a:blip r:embed="rId1"/>
          <a:stretch/>
        </p:blipFill>
        <p:spPr>
          <a:xfrm>
            <a:off x="6172200" y="4267080"/>
            <a:ext cx="2209680" cy="21844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8"/>
          <p:cNvSpPr/>
          <p:nvPr/>
        </p:nvSpPr>
        <p:spPr>
          <a:xfrm>
            <a:off x="4190040" y="6613560"/>
            <a:ext cx="450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www.chemicalconnection.org.uk/chemistry/topics/images/pp3.jp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228600" y="1752480"/>
            <a:ext cx="1836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mall unit that can join together wit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ther small units to form polym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371600" y="28954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onom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1" name="Picture 8" descr="polymerization"/>
          <p:cNvPicPr/>
          <p:nvPr/>
        </p:nvPicPr>
        <p:blipFill>
          <a:blip r:embed="rId1"/>
          <a:stretch/>
        </p:blipFill>
        <p:spPr>
          <a:xfrm>
            <a:off x="4495680" y="3276720"/>
            <a:ext cx="3733920" cy="2041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9"/>
          <p:cNvSpPr/>
          <p:nvPr/>
        </p:nvSpPr>
        <p:spPr>
          <a:xfrm>
            <a:off x="7546680" y="640080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by Riedel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151920" y="57146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could be used to make an RNA molecu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 rot="2622600">
            <a:off x="3277440" y="144756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5" name="Picture 4" descr="phospholip purple labels"/>
          <p:cNvPicPr/>
          <p:nvPr/>
        </p:nvPicPr>
        <p:blipFill>
          <a:blip r:embed="rId1"/>
          <a:stretch/>
        </p:blipFill>
        <p:spPr>
          <a:xfrm>
            <a:off x="457200" y="304920"/>
            <a:ext cx="1104840" cy="2209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nucleotide 1P labeled"/>
          <p:cNvPicPr/>
          <p:nvPr/>
        </p:nvPicPr>
        <p:blipFill>
          <a:blip r:embed="rId2"/>
          <a:stretch/>
        </p:blipFill>
        <p:spPr>
          <a:xfrm>
            <a:off x="2743200" y="685800"/>
            <a:ext cx="2895480" cy="1360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helix6"/>
          <p:cNvPicPr/>
          <p:nvPr/>
        </p:nvPicPr>
        <p:blipFill>
          <a:blip r:embed="rId3"/>
          <a:stretch/>
        </p:blipFill>
        <p:spPr>
          <a:xfrm>
            <a:off x="5029200" y="2743200"/>
            <a:ext cx="1717560" cy="299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aminoacidpaint"/>
          <p:cNvPicPr/>
          <p:nvPr/>
        </p:nvPicPr>
        <p:blipFill>
          <a:blip r:embed="rId4"/>
          <a:stretch/>
        </p:blipFill>
        <p:spPr>
          <a:xfrm>
            <a:off x="6095880" y="380880"/>
            <a:ext cx="2036880" cy="2024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glucose no label"/>
          <p:cNvPicPr/>
          <p:nvPr/>
        </p:nvPicPr>
        <p:blipFill>
          <a:blip r:embed="rId5"/>
          <a:stretch/>
        </p:blipFill>
        <p:spPr>
          <a:xfrm>
            <a:off x="2209680" y="3200400"/>
            <a:ext cx="1301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monosaccharide is a 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pid          nucleic acid       carbohydrate    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183280" y="53352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arbohydr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320040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y genetic diseases result from the production of enzymes that are not shaped correctly. How could a change in an enzyme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shape cause it to work poorly or not at all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09480" y="52578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anging its shape can alter the shape of the active site so substrate doesn</a:t>
            </a:r>
            <a:r>
              <a:rPr b="1" lang="ja-JP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 fit which affects how the enzyme wo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4582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carbohydrate molecule that cells burn to release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2718000" y="1600200"/>
            <a:ext cx="21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gluco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380880" y="2743200"/>
            <a:ext cx="820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lace on an enzyme where the substrate attach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666880" y="3962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Active si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4" name="Picture 9" descr="enzyme_"/>
          <p:cNvPicPr/>
          <p:nvPr/>
        </p:nvPicPr>
        <p:blipFill>
          <a:blip r:embed="rId1"/>
          <a:stretch/>
        </p:blipFill>
        <p:spPr>
          <a:xfrm>
            <a:off x="5943600" y="3809880"/>
            <a:ext cx="2590920" cy="253836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0"/>
          <p:cNvSpPr/>
          <p:nvPr/>
        </p:nvSpPr>
        <p:spPr>
          <a:xfrm>
            <a:off x="4038120" y="6400800"/>
            <a:ext cx="484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biologie.uni-hamburg.de/b-online/library/cat-removed/enzyme_.gif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uble stranded nucleic acid molec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taining A, T, C, G nitrogen 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und in chromosomes that 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enetic informat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5494320" y="1905120"/>
            <a:ext cx="131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304920" y="464832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cromolecule made by joining MANY sugar molecules together in a ch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2286000" y="59436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polysacchar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4876560" y="4571280"/>
            <a:ext cx="342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eb.mit.edu/esgbio/www/lm/sugars/sugars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1" name="Picture 8" descr="amylose"/>
          <p:cNvPicPr/>
          <p:nvPr/>
        </p:nvPicPr>
        <p:blipFill>
          <a:blip r:embed="rId1"/>
          <a:srcRect l="0" t="0" r="0" b="30950"/>
          <a:stretch/>
        </p:blipFill>
        <p:spPr>
          <a:xfrm>
            <a:off x="4572000" y="3352680"/>
            <a:ext cx="4317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0" y="57150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is a polysacchari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 rot="1749600">
            <a:off x="1373040" y="42667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4" name="Picture 4" descr="phospholip purple labels"/>
          <p:cNvPicPr/>
          <p:nvPr/>
        </p:nvPicPr>
        <p:blipFill>
          <a:blip r:embed="rId1"/>
          <a:stretch/>
        </p:blipFill>
        <p:spPr>
          <a:xfrm>
            <a:off x="5334120" y="2743200"/>
            <a:ext cx="1104840" cy="22096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helix6"/>
          <p:cNvPicPr/>
          <p:nvPr/>
        </p:nvPicPr>
        <p:blipFill>
          <a:blip r:embed="rId2"/>
          <a:stretch/>
        </p:blipFill>
        <p:spPr>
          <a:xfrm>
            <a:off x="6781680" y="2286000"/>
            <a:ext cx="1717920" cy="29988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Adensine triphos"/>
          <p:cNvPicPr/>
          <p:nvPr/>
        </p:nvPicPr>
        <p:blipFill>
          <a:blip r:embed="rId3"/>
          <a:stretch/>
        </p:blipFill>
        <p:spPr>
          <a:xfrm>
            <a:off x="6095880" y="609480"/>
            <a:ext cx="2438640" cy="12034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starch_yellow2"/>
          <p:cNvPicPr/>
          <p:nvPr/>
        </p:nvPicPr>
        <p:blipFill>
          <a:blip r:embed="rId4"/>
          <a:stretch/>
        </p:blipFill>
        <p:spPr>
          <a:xfrm>
            <a:off x="914400" y="2819520"/>
            <a:ext cx="3519360" cy="15462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ppolypep chain"/>
          <p:cNvPicPr/>
          <p:nvPr/>
        </p:nvPicPr>
        <p:blipFill>
          <a:blip r:embed="rId5"/>
          <a:stretch/>
        </p:blipFill>
        <p:spPr>
          <a:xfrm>
            <a:off x="228600" y="380880"/>
            <a:ext cx="487692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nergy required to get 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emical reaction star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747720" y="1495440"/>
            <a:ext cx="42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Activation ener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232200" y="3505320"/>
            <a:ext cx="857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ubstance that speeds up a chemical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action by decreasing th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ctivation ener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4937040" y="467784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cataly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5714640" y="228600"/>
            <a:ext cx="32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www.chuckwagondiner.com/art/matches.jp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4" name="Picture 11" descr="matches"/>
          <p:cNvPicPr/>
          <p:nvPr/>
        </p:nvPicPr>
        <p:blipFill>
          <a:blip r:embed="rId1"/>
          <a:stretch/>
        </p:blipFill>
        <p:spPr>
          <a:xfrm>
            <a:off x="6553080" y="457200"/>
            <a:ext cx="22860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0" y="297180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ttraction between oppositely charged regions of nearby molecules involving the hydrogen atoms of one molecule and the partiall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gatively charg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toms in anothe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lec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762120" y="6156360"/>
            <a:ext cx="408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Hydrogen bon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92320" y="0"/>
            <a:ext cx="791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tein that acts as a biological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talyst in living things to help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emical reactions happen faster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033720" y="1675800"/>
            <a:ext cx="21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enzym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9" name="Picture 8" descr="hydrogen bonds"/>
          <p:cNvPicPr/>
          <p:nvPr/>
        </p:nvPicPr>
        <p:blipFill>
          <a:blip r:embed="rId1"/>
          <a:stretch/>
        </p:blipFill>
        <p:spPr>
          <a:xfrm>
            <a:off x="5257800" y="4419720"/>
            <a:ext cx="3886200" cy="21492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9"/>
          <p:cNvSpPr/>
          <p:nvPr/>
        </p:nvSpPr>
        <p:spPr>
          <a:xfrm>
            <a:off x="3533400" y="6613560"/>
            <a:ext cx="557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Images from: http://www.estrellamountain.edu/faculty/farabee/biobk/BioBookCHEM2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51920" y="60195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is an amino aci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 rot="19628400">
            <a:off x="7850160" y="18288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3" name="Picture 4" descr="phospholip purple labels"/>
          <p:cNvPicPr/>
          <p:nvPr/>
        </p:nvPicPr>
        <p:blipFill>
          <a:blip r:embed="rId1"/>
          <a:stretch/>
        </p:blipFill>
        <p:spPr>
          <a:xfrm>
            <a:off x="457200" y="304920"/>
            <a:ext cx="1104840" cy="2209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nucleotide 1P labeled"/>
          <p:cNvPicPr/>
          <p:nvPr/>
        </p:nvPicPr>
        <p:blipFill>
          <a:blip r:embed="rId2"/>
          <a:stretch/>
        </p:blipFill>
        <p:spPr>
          <a:xfrm>
            <a:off x="2743200" y="685800"/>
            <a:ext cx="2895480" cy="13604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helix6"/>
          <p:cNvPicPr/>
          <p:nvPr/>
        </p:nvPicPr>
        <p:blipFill>
          <a:blip r:embed="rId3"/>
          <a:stretch/>
        </p:blipFill>
        <p:spPr>
          <a:xfrm>
            <a:off x="5029200" y="2743200"/>
            <a:ext cx="1717560" cy="29988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aminoacidpaint"/>
          <p:cNvPicPr/>
          <p:nvPr/>
        </p:nvPicPr>
        <p:blipFill>
          <a:blip r:embed="rId4"/>
          <a:stretch/>
        </p:blipFill>
        <p:spPr>
          <a:xfrm>
            <a:off x="6095880" y="380880"/>
            <a:ext cx="2036880" cy="2024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glucose no label"/>
          <p:cNvPicPr/>
          <p:nvPr/>
        </p:nvPicPr>
        <p:blipFill>
          <a:blip r:embed="rId5"/>
          <a:stretch/>
        </p:blipFill>
        <p:spPr>
          <a:xfrm>
            <a:off x="2209680" y="3200400"/>
            <a:ext cx="1301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-122760" y="274680"/>
            <a:ext cx="917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cromolecule that contains carbon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ydrogen, oxygen, and nitrogen, mad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y joining amino acid subuni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152280" y="30477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lecule with an uneven pattern of electric charges; More + on one side/ more – on the 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2055600" y="2133720"/>
            <a:ext cx="20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rotei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2074320" y="502848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ola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2" name="Picture 8" descr="Water Molecule"/>
          <p:cNvPicPr/>
          <p:nvPr/>
        </p:nvPicPr>
        <p:blipFill>
          <a:blip r:embed="rId1"/>
          <a:srcRect l="6526" t="19355" r="5372" b="3226"/>
          <a:stretch/>
        </p:blipFill>
        <p:spPr>
          <a:xfrm>
            <a:off x="5638680" y="4038480"/>
            <a:ext cx="2409840" cy="243864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9"/>
          <p:cNvSpPr/>
          <p:nvPr/>
        </p:nvSpPr>
        <p:spPr>
          <a:xfrm>
            <a:off x="3430440" y="6613560"/>
            <a:ext cx="553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Image  from: http://www.estrellamountain.edu/faculty/farabee/biobk/BioBookCHEM2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 carbon sugar used to make 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134720" y="1219320"/>
            <a:ext cx="32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deoxyribo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47680" y="2971800"/>
            <a:ext cx="852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atom that has gained or lost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lectrons so it has an electric charg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2438280" y="41911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79440" y="5105160"/>
            <a:ext cx="73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ubstances on the left side of a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emical equation which reac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3845880" y="6155640"/>
            <a:ext cx="26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eacta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0" name="Picture 8" descr="fig5x27b"/>
          <p:cNvPicPr/>
          <p:nvPr/>
        </p:nvPicPr>
        <p:blipFill>
          <a:blip r:embed="rId1"/>
          <a:srcRect l="8371" t="13331" r="56748" b="37780"/>
          <a:stretch/>
        </p:blipFill>
        <p:spPr>
          <a:xfrm>
            <a:off x="6324480" y="1066680"/>
            <a:ext cx="1905120" cy="16765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9"/>
          <p:cNvSpPr/>
          <p:nvPr/>
        </p:nvSpPr>
        <p:spPr>
          <a:xfrm>
            <a:off x="4038480" y="0"/>
            <a:ext cx="463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Image from: http://fig.cox.miami.edu/~cmallery/150/chemistry/fig5x27b.jp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pound made up of carbon, hydrogen, and oxygen atoms usually in a ratio of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 C: 2 H: 1 O which is a major source of energy for the human body</a:t>
            </a: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2591640" y="2209680"/>
            <a:ext cx="36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carbohydr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152280" y="304812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arge molecule made by join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maller monomer subunits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295280" y="41911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olym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6" name="Picture 6" descr="polymerization"/>
          <p:cNvPicPr/>
          <p:nvPr/>
        </p:nvPicPr>
        <p:blipFill>
          <a:blip r:embed="rId1"/>
          <a:stretch/>
        </p:blipFill>
        <p:spPr>
          <a:xfrm>
            <a:off x="4419720" y="4572000"/>
            <a:ext cx="3733560" cy="20415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7"/>
          <p:cNvSpPr/>
          <p:nvPr/>
        </p:nvSpPr>
        <p:spPr>
          <a:xfrm>
            <a:off x="7546680" y="640080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by Riedel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cromolecule made mainly of carbon and hydrogen atoms; includes fats, oils, and waxes and steroids, which is generally hydrophob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3144960" y="1828800"/>
            <a:ext cx="129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lipi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60840" y="3276720"/>
            <a:ext cx="930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cromolecule made of nucleotide subunit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taining carbon, hydrogen, oxygen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itrogen, and phosphorus which stores an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ansports information in cells and help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protein syn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2058480" y="5790600"/>
            <a:ext cx="31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nucleic aci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57150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is a protei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 rot="1749600">
            <a:off x="3430080" y="167616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4" descr="phospholip purple labels"/>
          <p:cNvPicPr/>
          <p:nvPr/>
        </p:nvPicPr>
        <p:blipFill>
          <a:blip r:embed="rId1"/>
          <a:stretch/>
        </p:blipFill>
        <p:spPr>
          <a:xfrm>
            <a:off x="5334120" y="2743200"/>
            <a:ext cx="1104840" cy="2209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helix6"/>
          <p:cNvPicPr/>
          <p:nvPr/>
        </p:nvPicPr>
        <p:blipFill>
          <a:blip r:embed="rId2"/>
          <a:stretch/>
        </p:blipFill>
        <p:spPr>
          <a:xfrm>
            <a:off x="6781680" y="2286000"/>
            <a:ext cx="1717920" cy="2998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Adensine triphos"/>
          <p:cNvPicPr/>
          <p:nvPr/>
        </p:nvPicPr>
        <p:blipFill>
          <a:blip r:embed="rId3"/>
          <a:stretch/>
        </p:blipFill>
        <p:spPr>
          <a:xfrm>
            <a:off x="6095880" y="609480"/>
            <a:ext cx="2438640" cy="1203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starch_yellow2"/>
          <p:cNvPicPr/>
          <p:nvPr/>
        </p:nvPicPr>
        <p:blipFill>
          <a:blip r:embed="rId4"/>
          <a:stretch/>
        </p:blipFill>
        <p:spPr>
          <a:xfrm>
            <a:off x="1066680" y="3352680"/>
            <a:ext cx="3519720" cy="154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ppolypep chain"/>
          <p:cNvPicPr/>
          <p:nvPr/>
        </p:nvPicPr>
        <p:blipFill>
          <a:blip r:embed="rId5"/>
          <a:stretch/>
        </p:blipFill>
        <p:spPr>
          <a:xfrm>
            <a:off x="228600" y="380880"/>
            <a:ext cx="487692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gle stranded nucleic acid that contains the sugar ribose and the nitrogen bases adenine, guanine, cytosine, and ura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174680" y="1752480"/>
            <a:ext cx="57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NA (ribonucleic acid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105840" y="2971800"/>
            <a:ext cx="8404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bunit used to make proteins made up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f a carbon atom attached 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hydrogen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carboxyl group (-COOH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amino group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-NH2) , and a variable R grou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368640" y="5942880"/>
            <a:ext cx="300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Amino aci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6" name="Picture 8" descr="aa paint"/>
          <p:cNvPicPr/>
          <p:nvPr/>
        </p:nvPicPr>
        <p:blipFill>
          <a:blip r:embed="rId1"/>
          <a:stretch/>
        </p:blipFill>
        <p:spPr>
          <a:xfrm>
            <a:off x="7162920" y="4038480"/>
            <a:ext cx="1638360" cy="205740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0"/>
          <p:cNvSpPr/>
          <p:nvPr/>
        </p:nvSpPr>
        <p:spPr>
          <a:xfrm>
            <a:off x="7470360" y="624852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99"/>
                </a:solidFill>
                <a:latin typeface="Arial"/>
              </a:rPr>
              <a:t>Image by Riedel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olysaccharide used by PLANT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store glucose for l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1202760" y="1828800"/>
            <a:ext cx="178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tarc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578520" y="3580560"/>
            <a:ext cx="680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does DNA stand for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1456920" y="4282200"/>
            <a:ext cx="57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Deoxyribonucleic aci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2" name="Picture 8" descr="http://bioweb.wku.edu/courses/BIOL115/Wyatt/Biochem/Carbos/Carb_poly.gif"/>
          <p:cNvPicPr/>
          <p:nvPr/>
        </p:nvPicPr>
        <p:blipFill>
          <a:blip r:embed="rId1"/>
          <a:srcRect l="0" t="11363" r="0" b="70459"/>
          <a:stretch/>
        </p:blipFill>
        <p:spPr>
          <a:xfrm>
            <a:off x="3733920" y="1523880"/>
            <a:ext cx="5105160" cy="92880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9"/>
          <p:cNvSpPr/>
          <p:nvPr/>
        </p:nvSpPr>
        <p:spPr>
          <a:xfrm>
            <a:off x="4039920" y="2514600"/>
            <a:ext cx="484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bioweb.wku.edu/courses/BIOL115/Wyatt/Biochem/Carbos/Carb_poly.gif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51920" y="57150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is used by cel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store and transport energ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"/>
          <p:cNvSpPr/>
          <p:nvPr/>
        </p:nvSpPr>
        <p:spPr>
          <a:xfrm rot="5215200">
            <a:off x="630000" y="432396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6" name="Picture 4" descr="phospholip purple labels"/>
          <p:cNvPicPr/>
          <p:nvPr/>
        </p:nvPicPr>
        <p:blipFill>
          <a:blip r:embed="rId1"/>
          <a:stretch/>
        </p:blipFill>
        <p:spPr>
          <a:xfrm>
            <a:off x="457200" y="304920"/>
            <a:ext cx="1104840" cy="2209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helix6"/>
          <p:cNvPicPr/>
          <p:nvPr/>
        </p:nvPicPr>
        <p:blipFill>
          <a:blip r:embed="rId2"/>
          <a:stretch/>
        </p:blipFill>
        <p:spPr>
          <a:xfrm>
            <a:off x="5562720" y="2514600"/>
            <a:ext cx="1717560" cy="2998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glucose no label"/>
          <p:cNvPicPr/>
          <p:nvPr/>
        </p:nvPicPr>
        <p:blipFill>
          <a:blip r:embed="rId3"/>
          <a:stretch/>
        </p:blipFill>
        <p:spPr>
          <a:xfrm>
            <a:off x="2743200" y="609480"/>
            <a:ext cx="1301760" cy="1752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Adensine triphos"/>
          <p:cNvPicPr/>
          <p:nvPr/>
        </p:nvPicPr>
        <p:blipFill>
          <a:blip r:embed="rId4"/>
          <a:stretch/>
        </p:blipFill>
        <p:spPr>
          <a:xfrm>
            <a:off x="762120" y="3124080"/>
            <a:ext cx="3962160" cy="19576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starch_yellow2"/>
          <p:cNvPicPr/>
          <p:nvPr/>
        </p:nvPicPr>
        <p:blipFill>
          <a:blip r:embed="rId5"/>
          <a:stretch/>
        </p:blipFill>
        <p:spPr>
          <a:xfrm>
            <a:off x="5029200" y="685800"/>
            <a:ext cx="3519360" cy="154620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9"/>
          <p:cNvSpPr/>
          <p:nvPr/>
        </p:nvSpPr>
        <p:spPr>
          <a:xfrm>
            <a:off x="2019600" y="4419720"/>
            <a:ext cx="803880" cy="307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IBO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2 kinds of nucleic acids you learned abou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377720" y="2057400"/>
            <a:ext cx="39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NA   and   RN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30760" y="3962520"/>
            <a:ext cx="809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ive an example of a polysacchar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371600" y="5029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ellulose, glycogen, star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teins that help chemical reactions happen fast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= 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831320" y="1600200"/>
            <a:ext cx="201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nzym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60080" y="2743200"/>
            <a:ext cx="7291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zymes work by ____________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activation energy required 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t a chemical reaction started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ing        decreas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648320" y="27432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creas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ructural polysaccharide used to make plants stur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729440" y="1523880"/>
            <a:ext cx="240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cellulo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28600" y="2743200"/>
            <a:ext cx="85345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pecial kind of nucleotide used by cells to store the energy released from burning glucos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447920" y="5105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AT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11" descr="Adensine triphos"/>
          <p:cNvPicPr/>
          <p:nvPr/>
        </p:nvPicPr>
        <p:blipFill>
          <a:blip r:embed="rId1"/>
          <a:stretch/>
        </p:blipFill>
        <p:spPr>
          <a:xfrm>
            <a:off x="3809880" y="4413240"/>
            <a:ext cx="4953240" cy="2444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2"/>
          <p:cNvSpPr/>
          <p:nvPr/>
        </p:nvSpPr>
        <p:spPr>
          <a:xfrm>
            <a:off x="5520960" y="6095880"/>
            <a:ext cx="915120" cy="33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RIBO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7546680" y="624852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99"/>
                </a:solidFill>
                <a:latin typeface="Arial"/>
              </a:rPr>
              <a:t>Image by Riedel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1:49:56Z</dcterms:created>
  <dc:creator>kriedell</dc:creator>
  <dc:description/>
  <dc:language>en-US</dc:language>
  <cp:lastModifiedBy>dzahm</cp:lastModifiedBy>
  <dcterms:modified xsi:type="dcterms:W3CDTF">2013-10-03T14:45:03Z</dcterms:modified>
  <cp:revision>81</cp:revision>
  <dc:subject/>
  <dc:title>Intro to Cell Biology Review</dc:title>
</cp:coreProperties>
</file>